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26.jpeg" ContentType="image/jpeg"/>
  <Override PartName="/ppt/media/image42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47.png" ContentType="image/pn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4.png" ContentType="image/png"/>
  <Override PartName="/ppt/media/image63.jpeg" ContentType="image/jpeg"/>
  <Override PartName="/ppt/media/image60.png" ContentType="image/png"/>
  <Override PartName="/ppt/media/image50.jpeg" ContentType="image/jpeg"/>
  <Override PartName="/ppt/media/image59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49.jpeg" ContentType="image/jpeg"/>
  <Override PartName="/ppt/media/image20.jpeg" ContentType="image/jpeg"/>
  <Override PartName="/ppt/media/image18.jpeg" ContentType="image/jpeg"/>
  <Override PartName="/ppt/media/image19.png" ContentType="image/png"/>
  <Override PartName="/ppt/media/image62.jpeg" ContentType="image/jpeg"/>
  <Override PartName="/ppt/media/image61.png" ContentType="image/png"/>
  <Override PartName="/ppt/media/image5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51.jpeg" ContentType="image/jpeg"/>
  <Override PartName="/ppt/media/image4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6.wmf" ContentType="image/x-wmf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37.jpeg" ContentType="image/jpeg"/>
  <Override PartName="/ppt/media/image57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B65-B98E-41C8-B3C0-A0E337DD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BED-E857-41BC-9EDF-8D85B5F3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404-AC3A-4F5C-971F-FB81679E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5A7-9F8E-4F4A-B443-2E492745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2776-BBD1-4D33-84A7-3D91F92E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962-013B-46AE-AD82-D4324DDA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A5F-8ECF-45EF-A354-3FD5E54B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79E-3757-4ACB-B189-CBAB0F38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7BA-3D90-4156-BDCD-262A2624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A9D-4BBB-4D7F-AE7B-D89876BA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27E-CD91-4D2A-8646-7A98A0E2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FAA-E201-4BCD-9F16-F7F972C7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75D0-643B-4977-B5A8-99E445B115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donboscobaires.com.ar/07_agenda/paso/2000/europa/gde/14-2%20cole%20don%20bosco%20casa.jpg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berber.altervista.org/images/gesu.jpg&amp;imgrefurl=http://suorbernardina.splinder.com/&amp;h=480&amp;w=350&amp;sz=53&amp;tbnid=pwM0Gqo3IWIJ:&amp;tbnh=126&amp;tbnw=91&amp;hl=it&amp;start=10&amp;prev=/images%3Fq%3Dmaria%2Bausiliatrice%26svnum%3D10%26hl%3Dit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it/imgres?imgurl=http://digilander.libero.it/silvergiangy/Maria%2520Ausiliatrice.jpg&amp;imgrefurl=http://digilander.libero.it/silvergiangy/&amp;h=320&amp;w=240&amp;sz=72&amp;tbnid=qWxRfF4ujZsJ:&amp;tbnh=113&amp;tbnw=84&amp;hl=it&amp;start=16&amp;prev=/images%3Fq%3Dausiliatrice%26svnum%3D10%26hl%3Dit%26lr%3D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istitutosociale.it/img/arcivescovado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tecfa.unige.ch/~nova/img/torino/Dscn2117.jpg" TargetMode="External"/><Relationship Id="rId6" Type="http://schemas.openxmlformats.org/officeDocument/2006/relationships/image" Target="../media/image16.png"/><Relationship Id="rId7" Type="http://schemas.openxmlformats.org/officeDocument/2006/relationships/hyperlink" Target="http://www.ziobill.com/friends/images/praha/notte%20praga6.JPG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images.google.it/imgres?imgurl=http://www.albanesi.it/VMS/libri.gif&amp;imgrefurl=http://www.albanesi.it/VMS/studiare.htm&amp;h=156&amp;w=240&amp;sz=8&amp;tbnid=DFJG6u9WklYJ:&amp;tbnh=67&amp;tbnw=104&amp;hl=it&amp;start=160&amp;prev=/images%3Fq%3Dstudiare%26start%3D140%26svnum%3D10%26hl%3Dit%26lr%3D%26sa%3DN" TargetMode="External"/><Relationship Id="rId10" Type="http://schemas.openxmlformats.org/officeDocument/2006/relationships/image" Target="../media/image18.jpeg"/><Relationship Id="rId11" Type="http://schemas.openxmlformats.org/officeDocument/2006/relationships/hyperlink" Target="http://www.papagiovanni.com/web_pime/images/foto/chierico.jpg" TargetMode="External"/><Relationship Id="rId12" Type="http://schemas.openxmlformats.org/officeDocument/2006/relationships/image" Target="../media/image19.pn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images.google.it/imgres?imgurl=http://www.radio.rai.it/radio1/BAOBAB/archivio_2000/images/17_05/carcere.gif&amp;imgrefurl=http://www.radio.rai.it/radio1/BAOBAB/archivio_2000/eventi/maggio/17_5.htm&amp;h=191&amp;w=225&amp;sz=29&amp;tbnid=OFhUVDxVPuQJ:&amp;tbnh=86&amp;tbnw=102&amp;hl=it&amp;start=2&amp;prev=/images%3Fq%3Dcarcere%26svnum%3D10%26hl%3Dit%26lr%3D%26sa%3DN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ages.google.it/imgres?imgurl=http://www.uonna.it/carcere-distribuzione-vitto.jpg&amp;imgrefurl=http://www.uonna.it/unac-foto-irak2.htm&amp;h=300&amp;w=400&amp;sz=71&amp;tbnid=1aHzgZNRB5QJ:&amp;tbnh=90&amp;tbnw=120&amp;hl=it&amp;start=4&amp;prev=/images%3Fq%3Dcarcere%26svnum%3D10%26hl%3Dit%26lr%3D%26sa%3DN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images.google.it/imgres?imgurl=http://www.umbrialive.it/public/carcere.jpg&amp;imgrefurl=http://www.umbrialive.it/spoleto.asp&amp;h=173&amp;w=266&amp;sz=8&amp;tbnid=1EwL82UBhmwJ:&amp;tbnh=70&amp;tbnw=108&amp;hl=it&amp;start=10&amp;prev=/images%3Fq%3Dcarcere%26svnum%3D10%26hl%3Dit%26lr%3D%26sa%3DN" TargetMode="External"/><Relationship Id="rId7" Type="http://schemas.openxmlformats.org/officeDocument/2006/relationships/image" Target="../media/image24.jpeg"/><Relationship Id="rId8" Type="http://schemas.openxmlformats.org/officeDocument/2006/relationships/hyperlink" Target="http://images.google.it/imgres?imgurl=http://www.radiopopolare.it/html/rpnews/29/img/carcere2.jpg&amp;imgrefurl=http://www.radiopopolare.it/html/rpnews/29/sanvittore.htm&amp;h=380&amp;w=337&amp;sz=21&amp;tbnid=JxBwvznMEIoJ:&amp;tbnh=119&amp;tbnw=105&amp;hl=it&amp;start=12&amp;prev=/images%3Fq%3Dcarcere%26svnum%3D10%26hl%3Dit%26lr%3D%26sa%3DN" TargetMode="External"/><Relationship Id="rId9" Type="http://schemas.openxmlformats.org/officeDocument/2006/relationships/image" Target="../media/image25.jpeg"/><Relationship Id="rId10" Type="http://schemas.openxmlformats.org/officeDocument/2006/relationships/hyperlink" Target="http://images.google.it/imgres?imgurl=http://www.uruknet.info/uruknet-images/carcere--230x180.jpg&amp;imgrefurl=http://www.agrigentoweb.it/rubriche/index.asp%3Fnome_rubrica%3DGiurisprudenza&amp;h=180&amp;w=230&amp;sz=7&amp;tbnid=2oC-5SYhJYUJ:&amp;tbnh=80&amp;tbnw=103&amp;hl=it&amp;start=13&amp;prev=/images%3Fq%3Dcarcere%26svnum%3D10%26hl%3Dit%26lr%3D%26sa%3DN" TargetMode="External"/><Relationship Id="rId11" Type="http://schemas.openxmlformats.org/officeDocument/2006/relationships/image" Target="../media/image26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griturismocascinabecotta.it/images/prato%202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hyperlink" Target="http://images.google.it/imgres?imgurl=http://www.sagradelcinghialechianni.it/Immagini%2520di%2520Chianni%2520A/Chianni%2520piazza%2520della%2520Chiesa.jpg&amp;imgrefurl=http://www.sagradelcinghialechianni.it/Storia_della_sagra.htm&amp;h=400&amp;w=601&amp;sz=21&amp;tbnid=KKuDEqf18YAJ:&amp;tbnh=88&amp;tbnw=133&amp;hl=it&amp;start=12&amp;prev=/images%3Fq%3Dpiazza%26svnum%3D10%26hl%3Dit%26lr%3D" TargetMode="External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hyperlink" Target="http://images.google.it/imgres?imgurl=http://www.salesians.org.uk/assets/images/michele_rua.jpg&amp;imgrefurl=http://www.salesians.org.uk/html/blessed_michael_rua.html&amp;h=180&amp;w=140&amp;sz=18&amp;tbnid=deNlLyYMfe4J:&amp;tbnh=96&amp;tbnw=74&amp;hl=it&amp;start=1&amp;prev=/images%3Fq%3Dmichele%2Brua%26svnum%3D10%26hl%3Dit%26lr%3D" TargetMode="External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images.google.it/imgres?imgurl=http://www.viaggistudio.biz/Clacton%2520students%2520smiling.jpg&amp;imgrefurl=http://www.viaggistudio.biz/vacanzestudioragazzi.htm&amp;h=324&amp;w=448&amp;sz=89&amp;tbnid=QYM3O2oxAhcJ:&amp;tbnh=89&amp;tbnw=124&amp;hl=it&amp;start=15&amp;prev=/images%3Fq%3Dragazzi%26svnum%3D10%26hl%3Dit%26lr%3D%26sa%3DG" TargetMode="External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hyperlink" Target="http://digilander.libero.it/missionekami/Foto/collegio-ragazzi.jpg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://www.sciclub.bormio.it/categorie/ragazzi/frefrem%20roma%20galas.jpg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://images.google.it/imgres?imgurl=http://xoomer.virgilio.it/bguizzi/bangladesh/fotobambini/banbini%2520al%2520fiume%25201.jpg&amp;imgrefurl=http://xoomer.virgilio.it/bguizzi/bangladesh/fotobambini/fabrizio1.htm&amp;h=890&amp;w=582&amp;sz=181&amp;tbnid=MCQkm2_D7MkJ:&amp;tbnh=145&amp;tbnw=94&amp;hl=it&amp;start=3&amp;prev=/images%3Fq%3Dbanbini%26svnum%3D10%26hl%3Dit%26lr%3D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://images.google.it/imgres?imgurl=http://www.cralregionesiciliana.it/images/lonero3.jpg&amp;imgrefurl=http://www.cralregionesiciliana.it/lonero1.htm&amp;h=596&amp;w=824&amp;sz=60&amp;tbnid=iCfjDbjPaQwJ:&amp;tbnh=103&amp;tbnw=143&amp;hl=it&amp;start=20&amp;prev=/images%3Fq%3Dbanbini%26svnum%3D10%26hl%3Dit%26lr%3D" TargetMode="External"/><Relationship Id="rId12" Type="http://schemas.openxmlformats.org/officeDocument/2006/relationships/image" Target="../media/image40.jpeg"/><Relationship Id="rId13" Type="http://schemas.openxmlformats.org/officeDocument/2006/relationships/hyperlink" Target="http://images.google.it/imgres?imgurl=http://www.rrv-eppingen.de/Fotos/Heilbronn_Banbini_2004/Bild_3.jpg&amp;imgrefurl=http://www.rrv-eppingen.de/Home_Haupt.htm&amp;h=1930&amp;w=2176&amp;sz=200&amp;tbnid=dMrZeYjpO_QJ:&amp;tbnh=133&amp;tbnw=150&amp;hl=it&amp;start=37&amp;prev=/images%3Fq%3Dbanbini%26start%3D20%26svnum%3D10%26hl%3Dit%26lr%3D%26sa%3DN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://images.google.it/imgres?imgurl=http://www.agnelli.it/images_comuni/comun.gif&amp;imgrefurl=http://www.agnelli.it/co_sales.htm&amp;h=240&amp;w=208&amp;sz=32&amp;tbnid=lTfopAZGI-MJ:&amp;tbnh=104&amp;tbnw=90&amp;hl=it&amp;start=16&amp;prev=/images%3Fq%3Dsalesiani%26svnum%3D10%26hl%3Dit%26lr%3D" TargetMode="External"/><Relationship Id="rId16" Type="http://schemas.openxmlformats.org/officeDocument/2006/relationships/image" Target="../media/image42.png"/><Relationship Id="rId17" Type="http://schemas.openxmlformats.org/officeDocument/2006/relationships/hyperlink" Target="http://images.google.it/imgres?imgurl=http://www.embellishments.us/images/spiritual/praying%2520hands.jpg&amp;imgrefurl=http://www.ourcal.com/group.html&amp;h=173&amp;w=141&amp;sz=10&amp;tbnid=ltHRktf5dVoJ:&amp;tbnh=94&amp;tbnw=76&amp;hl=it&amp;start=8&amp;prev=/images%3Fq%3Dpregare%26svnum%3D10%26hl%3Dit%26lr%3D" TargetMode="External"/><Relationship Id="rId18" Type="http://schemas.openxmlformats.org/officeDocument/2006/relationships/image" Target="../media/image43.png"/><Relationship Id="rId19" Type="http://schemas.openxmlformats.org/officeDocument/2006/relationships/hyperlink" Target="http://www.agnelli.it/images_comuni/logo_salesiani.gif" TargetMode="External"/><Relationship Id="rId20" Type="http://schemas.openxmlformats.org/officeDocument/2006/relationships/image" Target="../media/image44.jpeg"/><Relationship Id="rId21" Type="http://schemas.openxmlformats.org/officeDocument/2006/relationships/hyperlink" Target="http://images.google.it/imgres?imgurl=http://www.enrosadira.it/santi/d/domenicosavio.jpg&amp;imgrefurl=http://www.enrosadira.it/santi/d/dsavio.htm&amp;h=250&amp;w=140&amp;sz=9&amp;tbnid=e-cz6ZX2cXsJ:&amp;tbnh=106&amp;tbnw=59&amp;hl=it&amp;start=5&amp;prev=/images%3Fq%3Ddomenico%2Bsavio%26svnum%3D10%26hl%3Dit%26lr%3D" TargetMode="External"/><Relationship Id="rId22" Type="http://schemas.openxmlformats.org/officeDocument/2006/relationships/image" Target="../media/image45.jpeg"/><Relationship Id="rId23" Type="http://schemas.openxmlformats.org/officeDocument/2006/relationships/hyperlink" Target="http://images.google.it/imgres?imgurl=http://www.is0grb.it/ru6a/salesiani.jpg&amp;imgrefurl=http://www.is0grb.it/ru6a/pag2.htm&amp;h=480&amp;w=640&amp;sz=64&amp;tbnid=Txn03trTjeIJ:&amp;tbnh=101&amp;tbnw=135&amp;hl=it&amp;start=3&amp;prev=/images%3Fq%3Dsalesiani%26svnum%3D10%26hl%3Dit%26lr%3D" TargetMode="External"/><Relationship Id="rId24" Type="http://schemas.openxmlformats.org/officeDocument/2006/relationships/image" Target="../media/image46.jpeg"/><Relationship Id="rId25" Type="http://schemas.openxmlformats.org/officeDocument/2006/relationships/hyperlink" Target="http://images.google.it/imgres?imgurl=http://www.location-costumes.ch/admin/photos/canne%2520papale.jpg&amp;imgrefurl=http://www.location-costumes.ch/catalogue_photo.php%3FID%3D142&amp;h=400&amp;w=300&amp;sz=31&amp;tbnid=51C_YjbCNvgJ:&amp;tbnh=120&amp;tbnw=90&amp;hl=it&amp;start=9&amp;prev=/images%3Fq%3Dpapale%26svnum%3D10%26hl%3Dit%26lr%3D%26sa%3DN" TargetMode="External"/><Relationship Id="rId26" Type="http://schemas.openxmlformats.org/officeDocument/2006/relationships/image" Target="../media/image47.png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multiservizi.it/manovalanza/lavoratori.gif&amp;imgrefurl=http://www.multiservizi.it/MANOVALANZA.htm&amp;h=165&amp;w=250&amp;sz=33&amp;tbnid=XeS7-UTCED8J:&amp;tbnh=69&amp;tbnw=106&amp;hl=it&amp;start=20&amp;prev=/images%3Fq%3Doperai%26svnum%3D10%26hl%3Dit%26lr%3D" TargetMode="External"/><Relationship Id="rId2" Type="http://schemas.openxmlformats.org/officeDocument/2006/relationships/image" Target="../media/image48.jpeg"/><Relationship Id="rId3" Type="http://schemas.openxmlformats.org/officeDocument/2006/relationships/hyperlink" Target="http://images.google.it/imgres?imgurl=http://www.perbellini.it/immagini/f_az2.jpg&amp;imgrefurl=http://www.perbellini.it/azienda/storia.htm&amp;h=190&amp;w=275&amp;sz=26&amp;tbnid=JgSczeXqJ64J:&amp;tbnh=75&amp;tbnw=109&amp;hl=it&amp;start=9&amp;prev=/images%3Fq%3Dfalegnami%26svnum%3D10%26hl%3Dit%26lr%3D" TargetMode="External"/><Relationship Id="rId4" Type="http://schemas.openxmlformats.org/officeDocument/2006/relationships/image" Target="../media/image49.jpeg"/><Relationship Id="rId5" Type="http://schemas.openxmlformats.org/officeDocument/2006/relationships/hyperlink" Target="http://images.google.it/imgres?imgurl=http://www.ial.lazio.it/meccanici%2520colleferro.jpg&amp;imgrefurl=http://www.ial.lazio.it/coleeferro.htm&amp;h=600&amp;w=800&amp;sz=130&amp;tbnid=nkrUEYkS8OsJ:&amp;tbnh=106&amp;tbnw=142&amp;hl=it&amp;start=1&amp;prev=/images%3Fq%3Dmeccanici%26svnum%3D10%26hl%3Dit%26lr%3D" TargetMode="External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hyperlink" Target="http://images.google.it/imgres?imgurl=http://www.qsa.to.it/images/Lavoratori_di_un_tempo.jpg&amp;imgrefurl=http://www.qsa.to.it/securitypage.html&amp;h=494&amp;w=670&amp;sz=26&amp;tbnid=FLqSmV9gUq0J:&amp;tbnh=100&amp;tbnw=136&amp;hl=it&amp;start=10&amp;prev=/images%3Fq%3Dlavoratori%26svnum%3D10%26hl%3Dit%26lr%3D" TargetMode="External"/><Relationship Id="rId9" Type="http://schemas.openxmlformats.org/officeDocument/2006/relationships/image" Target="../media/image52.jpeg"/><Relationship Id="rId10" Type="http://schemas.openxmlformats.org/officeDocument/2006/relationships/hyperlink" Target="http://images.google.it/imgres?imgurl=http://www.villasimiusweb.com/biblio/ekusa/carbonara/grano.jpg&amp;imgrefurl=http://www.villasimiusweb.com/biblio/ekusa/carbonara/agricoltura.html&amp;h=142&amp;w=200&amp;sz=6&amp;tbnid=FjBFX5xxV6wJ:&amp;tbnh=70&amp;tbnw=99&amp;hl=it&amp;start=5&amp;prev=/images%3Fq%3Dagricoltori%26svnum%3D10%26hl%3Dit%26lr%3D" TargetMode="External"/><Relationship Id="rId11" Type="http://schemas.openxmlformats.org/officeDocument/2006/relationships/image" Target="../media/image53.jpeg"/><Relationship Id="rId12" Type="http://schemas.openxmlformats.org/officeDocument/2006/relationships/image" Target="../media/image54.jpeg"/><Relationship Id="rId13" Type="http://schemas.openxmlformats.org/officeDocument/2006/relationships/image" Target="../media/image55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20847600">
            <a:off x="3774600" y="1514160"/>
            <a:ext cx="3095640" cy="2316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4076640"/>
            <a:ext cx="619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n Bosco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 invită să-l cunoşti....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404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(1815-18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77556E-017 C -0.09549 0.01273 -0.27848 -0.14583 -0.3625 -0.1125 C -0.44653 -0.07916 -0.59132 0.10903 -0.50469 0.2 C -0.41806 0.29098 0.03958 0.36736 0.15781 0.43334 C 0.27604 0.49931 0.17413 0.575 0.20468 0.59584 C 0.23524 0.61667 0.33958 0.68912 0.34062 0.55834 C 0.34166 0.42755 0.26822 -0.09722 0.21093 -0.18958 C 0.15364 -0.28194 0.09548 -0.01273 3.05556E-006 -2.77556E-017 Z">
                                      <p:cBhvr>
                                        <p:cTn id="6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404640"/>
            <a:ext cx="7724880" cy="82548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În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1853 </a:t>
            </a: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on Bosco fond</a:t>
            </a: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ză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Tahoma"/>
              </a:rPr>
              <a:t>Le</a:t>
            </a:r>
            <a:r>
              <a:rPr b="1" i="1" lang="ro-RO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i="1" lang="it-IT" sz="2400" spc="-1" strike="noStrike">
                <a:solidFill>
                  <a:srgbClr val="000000"/>
                </a:solidFill>
                <a:latin typeface="Tahoma"/>
              </a:rPr>
              <a:t>tur</a:t>
            </a:r>
            <a:r>
              <a:rPr b="1" i="1" lang="ro-RO" sz="2400" spc="-1" strike="noStrike">
                <a:solidFill>
                  <a:srgbClr val="000000"/>
                </a:solidFill>
                <a:latin typeface="Tahoma"/>
              </a:rPr>
              <a:t>il</a:t>
            </a:r>
            <a:r>
              <a:rPr b="1" i="1" lang="it-IT" sz="2400" spc="-1" strike="noStrike">
                <a:solidFill>
                  <a:srgbClr val="000000"/>
                </a:solidFill>
                <a:latin typeface="Tahoma"/>
              </a:rPr>
              <a:t>e Catolice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o-RO" sz="2400" spc="-1" strike="noStrike">
                <a:solidFill>
                  <a:srgbClr val="000000"/>
                </a:solidFill>
                <a:latin typeface="Tahoma"/>
              </a:rPr>
              <a:t>broşuri lunare despre credinţă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989000"/>
            <a:ext cx="8136000" cy="1465200"/>
          </a:xfrm>
          <a:prstGeom prst="rect">
            <a:avLst/>
          </a:prstGeom>
          <a:solidFill>
            <a:srgbClr val="ff00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Impact"/>
              </a:rPr>
              <a:t>Pe </a:t>
            </a:r>
            <a:r>
              <a:rPr b="0" lang="it-IT" sz="2200" spc="-1" strike="noStrike">
                <a:solidFill>
                  <a:srgbClr val="000000"/>
                </a:solidFill>
                <a:latin typeface="Impact"/>
              </a:rPr>
              <a:t>26 </a:t>
            </a:r>
            <a:r>
              <a:rPr b="0" lang="ro-RO" sz="2200" spc="-1" strike="noStrike">
                <a:solidFill>
                  <a:srgbClr val="000000"/>
                </a:solidFill>
                <a:latin typeface="Impact"/>
              </a:rPr>
              <a:t>ianuarie </a:t>
            </a:r>
            <a:r>
              <a:rPr b="0" lang="it-IT" sz="2200" spc="-1" strike="noStrike">
                <a:solidFill>
                  <a:srgbClr val="000000"/>
                </a:solidFill>
                <a:latin typeface="Impact"/>
              </a:rPr>
              <a:t>1854 </a:t>
            </a:r>
            <a:r>
              <a:rPr b="0" lang="ro-RO" sz="2200" spc="-1" strike="noStrike">
                <a:solidFill>
                  <a:srgbClr val="000000"/>
                </a:solidFill>
                <a:latin typeface="Impact"/>
              </a:rPr>
              <a:t>d</a:t>
            </a:r>
            <a:r>
              <a:rPr b="0" lang="it-IT" sz="2200" spc="-1" strike="noStrike">
                <a:solidFill>
                  <a:srgbClr val="000000"/>
                </a:solidFill>
                <a:latin typeface="Impact"/>
              </a:rPr>
              <a:t>on Bosco prop</a:t>
            </a:r>
            <a:r>
              <a:rPr b="0" lang="ro-RO" sz="2200" spc="-1" strike="noStrike">
                <a:solidFill>
                  <a:srgbClr val="000000"/>
                </a:solidFill>
                <a:latin typeface="Impact"/>
              </a:rPr>
              <a:t>u</a:t>
            </a:r>
            <a:r>
              <a:rPr b="0" lang="it-IT" sz="2200" spc="-1" strike="noStrike">
                <a:solidFill>
                  <a:srgbClr val="000000"/>
                </a:solidFill>
                <a:latin typeface="Impact"/>
              </a:rPr>
              <a:t>ne </a:t>
            </a:r>
            <a:r>
              <a:rPr b="0" lang="ro-RO" sz="2200" spc="-1" strike="noStrike">
                <a:solidFill>
                  <a:srgbClr val="000000"/>
                </a:solidFill>
                <a:latin typeface="Impact"/>
              </a:rPr>
              <a:t>la patru tineri </a:t>
            </a:r>
            <a:r>
              <a:rPr b="0" lang="it-IT" sz="2200" spc="-1" strike="noStrike">
                <a:solidFill>
                  <a:srgbClr val="000000"/>
                </a:solidFill>
                <a:latin typeface="Impact"/>
              </a:rPr>
              <a:t>(Rua, Cagliero, Rocchietti, Artiglia) </a:t>
            </a:r>
            <a:r>
              <a:rPr b="0" lang="ro-RO" sz="2200" spc="-1" strike="noStrike">
                <a:solidFill>
                  <a:srgbClr val="000000"/>
                </a:solidFill>
                <a:latin typeface="Impact"/>
              </a:rPr>
              <a:t>fondarea Congregaţiei</a:t>
            </a:r>
            <a:r>
              <a:rPr b="0" lang="it-IT" sz="2200" spc="-1" strike="noStrike">
                <a:solidFill>
                  <a:srgbClr val="000000"/>
                </a:solidFill>
                <a:latin typeface="Impact"/>
              </a:rPr>
              <a:t>: </a:t>
            </a:r>
            <a:r>
              <a:rPr b="0" lang="ro-RO" sz="2200" spc="-1" strike="noStrike">
                <a:solidFill>
                  <a:srgbClr val="000000"/>
                </a:solidFill>
                <a:latin typeface="Impact"/>
              </a:rPr>
              <a:t>fiecare promite să se implice mai mult în </a:t>
            </a:r>
            <a:r>
              <a:rPr b="0" lang="it-IT" sz="2200" spc="-1" strike="noStrike">
                <a:solidFill>
                  <a:srgbClr val="000000"/>
                </a:solidFill>
                <a:latin typeface="Impact"/>
              </a:rPr>
              <a:t>"carit</a:t>
            </a:r>
            <a:r>
              <a:rPr b="0" lang="ro-RO" sz="2200" spc="-1" strike="noStrike">
                <a:solidFill>
                  <a:srgbClr val="000000"/>
                </a:solidFill>
                <a:latin typeface="Impact"/>
              </a:rPr>
              <a:t>atea</a:t>
            </a:r>
            <a:r>
              <a:rPr b="0" lang="it-IT" sz="2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Impact"/>
              </a:rPr>
              <a:t>către aproapele</a:t>
            </a:r>
            <a:r>
              <a:rPr b="0" lang="it-IT" sz="2200" spc="-1" strike="noStrike">
                <a:solidFill>
                  <a:srgbClr val="000000"/>
                </a:solidFill>
                <a:latin typeface="Impact"/>
              </a:rPr>
              <a:t>".</a:t>
            </a:r>
            <a:r>
              <a:rPr b="0" lang="it-IT" sz="2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87280" y="3716280"/>
            <a:ext cx="6861240" cy="825480"/>
          </a:xfrm>
          <a:prstGeom prst="rect">
            <a:avLst/>
          </a:prstGeom>
          <a:solidFill>
            <a:srgbClr val="33cc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Pe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29 o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br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e 1854 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tr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în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Oratori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u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om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ic Savio, “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băiatul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fâ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t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5229360"/>
            <a:ext cx="8767800" cy="1191240"/>
          </a:xfrm>
          <a:prstGeom prst="rect">
            <a:avLst/>
          </a:prstGeom>
          <a:solidFill>
            <a:srgbClr val="9933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Pe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25 mar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tie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1855 Mih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a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Rua fa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vot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ul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sărăcie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, castit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ate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şi ascultare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Este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rim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ul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Salesian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!!!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0"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3200" y="3643200"/>
            <a:ext cx="8956080" cy="825480"/>
          </a:xfrm>
          <a:prstGeom prst="rect">
            <a:avLst/>
          </a:prstGeom>
          <a:solidFill>
            <a:srgbClr val="00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Franklin Gothic Demi"/>
              </a:rPr>
              <a:t>În </a:t>
            </a:r>
            <a:r>
              <a:rPr b="1" lang="it-IT" sz="2400" spc="-1" strike="noStrike">
                <a:solidFill>
                  <a:srgbClr val="000000"/>
                </a:solidFill>
                <a:latin typeface="Franklin Gothic Demi"/>
              </a:rPr>
              <a:t>no</a:t>
            </a:r>
            <a:r>
              <a:rPr b="1" lang="ro-RO" sz="2400" spc="-1" strike="noStrike">
                <a:solidFill>
                  <a:srgbClr val="000000"/>
                </a:solidFill>
                <a:latin typeface="Franklin Gothic Demi"/>
              </a:rPr>
              <a:t>ie</a:t>
            </a:r>
            <a:r>
              <a:rPr b="1" lang="it-IT" sz="2400" spc="-1" strike="noStrike">
                <a:solidFill>
                  <a:srgbClr val="000000"/>
                </a:solidFill>
                <a:latin typeface="Franklin Gothic Demi"/>
              </a:rPr>
              <a:t>mbr</a:t>
            </a:r>
            <a:r>
              <a:rPr b="1" lang="ro-RO" sz="2400" spc="-1" strike="noStrike">
                <a:solidFill>
                  <a:srgbClr val="000000"/>
                </a:solidFill>
                <a:latin typeface="Franklin Gothic Demi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Franklin Gothic Demi"/>
              </a:rPr>
              <a:t>e 1875 </a:t>
            </a:r>
            <a:r>
              <a:rPr b="1" lang="ro-RO" sz="2400" spc="-1" strike="noStrike">
                <a:solidFill>
                  <a:srgbClr val="000000"/>
                </a:solidFill>
                <a:latin typeface="Franklin Gothic Demi"/>
              </a:rPr>
              <a:t>încep </a:t>
            </a:r>
            <a:r>
              <a:rPr b="1" lang="it-IT" sz="2400" spc="-1" strike="noStrike">
                <a:solidFill>
                  <a:srgbClr val="000000"/>
                </a:solidFill>
                <a:latin typeface="Franklin Gothic Demi"/>
              </a:rPr>
              <a:t>Misioni</a:t>
            </a:r>
            <a:r>
              <a:rPr b="1" lang="ro-RO" sz="2400" spc="-1" strike="noStrike">
                <a:solidFill>
                  <a:srgbClr val="000000"/>
                </a:solidFill>
                <a:latin typeface="Franklin Gothic Demi"/>
              </a:rPr>
              <a:t>le</a:t>
            </a:r>
            <a:r>
              <a:rPr b="1" lang="it-IT" sz="2400" spc="-1" strike="noStrike">
                <a:solidFill>
                  <a:srgbClr val="000000"/>
                </a:solidFill>
                <a:latin typeface="Franklin Gothic Demi"/>
              </a:rPr>
              <a:t> Salesi</a:t>
            </a:r>
            <a:r>
              <a:rPr b="1" lang="ro-RO" sz="2400" spc="-1" strike="noStrike">
                <a:solidFill>
                  <a:srgbClr val="000000"/>
                </a:solidFill>
                <a:latin typeface="Franklin Gothic Demi"/>
              </a:rPr>
              <a:t>e</a:t>
            </a:r>
            <a:r>
              <a:rPr b="1" lang="it-IT" sz="2400" spc="-1" strike="noStrike">
                <a:solidFill>
                  <a:srgbClr val="000000"/>
                </a:solidFill>
                <a:latin typeface="Franklin Gothic Demi"/>
              </a:rPr>
              <a:t>ne</a:t>
            </a:r>
            <a:r>
              <a:rPr b="1" lang="ro-RO" sz="2400" spc="-1" strike="noStrike">
                <a:solidFill>
                  <a:srgbClr val="000000"/>
                </a:solidFill>
                <a:latin typeface="Franklin Gothic Demi"/>
              </a:rPr>
              <a:t> în Patagon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Franklin Gothic Demi"/>
              </a:rPr>
              <a:t>America de Sud</a:t>
            </a:r>
            <a:r>
              <a:rPr b="1" lang="it-IT" sz="2400" spc="-1" strike="noStrike">
                <a:solidFill>
                  <a:srgbClr val="000000"/>
                </a:solidFill>
                <a:latin typeface="Franklin Gothic Demi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000" y="5265720"/>
            <a:ext cx="8748720" cy="825480"/>
          </a:xfrm>
          <a:prstGeom prst="rect">
            <a:avLst/>
          </a:prstGeom>
          <a:solidFill>
            <a:srgbClr val="ff66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Georgia"/>
              </a:rPr>
              <a:t>În 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1876 </a:t>
            </a:r>
            <a:r>
              <a:rPr b="1" lang="ro-RO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on Bosco fond</a:t>
            </a:r>
            <a:r>
              <a:rPr b="1" lang="ro-RO" sz="24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1" lang="ro-RO" sz="2400" spc="-1" strike="noStrike">
                <a:solidFill>
                  <a:srgbClr val="000000"/>
                </a:solidFill>
                <a:latin typeface="Georgia"/>
              </a:rPr>
              <a:t>ză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o-RO" sz="2400" spc="-1" strike="noStrike">
                <a:solidFill>
                  <a:srgbClr val="000000"/>
                </a:solidFill>
                <a:latin typeface="Georgia"/>
              </a:rPr>
              <a:t>salezienii c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ooperatori</a:t>
            </a:r>
            <a:r>
              <a:rPr b="1" lang="ro-RO" sz="24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Georgia"/>
              </a:rPr>
              <a:t>a treia ramură a familei saleziene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7440" y="411120"/>
            <a:ext cx="8064720" cy="825480"/>
          </a:xfrm>
          <a:prstGeom prst="rect">
            <a:avLst/>
          </a:prstGeom>
          <a:solidFill>
            <a:srgbClr val="ff66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Forte"/>
              </a:rPr>
              <a:t>În</a:t>
            </a:r>
            <a:r>
              <a:rPr b="0" lang="it-IT" sz="2400" spc="-1" strike="noStrike">
                <a:solidFill>
                  <a:srgbClr val="000000"/>
                </a:solidFill>
                <a:latin typeface="Forte"/>
              </a:rPr>
              <a:t> 1858 don Bosco </a:t>
            </a:r>
            <a:r>
              <a:rPr b="0" lang="ro-RO" sz="2400" spc="-1" strike="noStrike">
                <a:solidFill>
                  <a:srgbClr val="000000"/>
                </a:solidFill>
                <a:latin typeface="Forte"/>
              </a:rPr>
              <a:t>merge l</a:t>
            </a:r>
            <a:r>
              <a:rPr b="0" lang="it-IT" sz="2400" spc="-1" strike="noStrike">
                <a:solidFill>
                  <a:srgbClr val="000000"/>
                </a:solidFill>
                <a:latin typeface="Forte"/>
              </a:rPr>
              <a:t>a Roma, pe</a:t>
            </a:r>
            <a:r>
              <a:rPr b="0" lang="ro-RO" sz="2400" spc="-1" strike="noStrike">
                <a:solidFill>
                  <a:srgbClr val="000000"/>
                </a:solidFill>
                <a:latin typeface="Forte"/>
              </a:rPr>
              <a:t>nt</a:t>
            </a:r>
            <a:r>
              <a:rPr b="0" lang="it-IT" sz="2400" spc="-1" strike="noStrike">
                <a:solidFill>
                  <a:srgbClr val="000000"/>
                </a:solidFill>
                <a:latin typeface="Forte"/>
              </a:rPr>
              <a:t>r</a:t>
            </a:r>
            <a:r>
              <a:rPr b="0" lang="ro-RO" sz="2400" spc="-1" strike="noStrike">
                <a:solidFill>
                  <a:srgbClr val="000000"/>
                </a:solidFill>
                <a:latin typeface="Fort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Forte"/>
              </a:rPr>
              <a:t>a </a:t>
            </a:r>
            <a:r>
              <a:rPr b="0" lang="it-IT" sz="2400" spc="-1" strike="noStrike">
                <a:solidFill>
                  <a:srgbClr val="000000"/>
                </a:solidFill>
                <a:latin typeface="Forte"/>
              </a:rPr>
              <a:t>pre</a:t>
            </a:r>
            <a:r>
              <a:rPr b="0" lang="ro-RO" sz="2400" spc="-1" strike="noStrike">
                <a:solidFill>
                  <a:srgbClr val="000000"/>
                </a:solidFill>
                <a:latin typeface="Forte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Forte"/>
              </a:rPr>
              <a:t>enta</a:t>
            </a:r>
            <a:r>
              <a:rPr b="0" lang="ro-RO" sz="24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Forte"/>
              </a:rPr>
              <a:t>opera </a:t>
            </a:r>
            <a:r>
              <a:rPr b="0" lang="ro-RO" sz="2400" spc="-1" strike="noStrike">
                <a:solidFill>
                  <a:srgbClr val="000000"/>
                </a:solidFill>
                <a:latin typeface="Forte"/>
              </a:rPr>
              <a:t>sa Sf. Părinte</a:t>
            </a:r>
            <a:r>
              <a:rPr b="0" lang="it-IT" sz="2400" spc="-1" strike="noStrike">
                <a:solidFill>
                  <a:srgbClr val="000000"/>
                </a:solidFill>
                <a:latin typeface="Forte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1953000"/>
            <a:ext cx="8893080" cy="764640"/>
          </a:xfrm>
          <a:prstGeom prst="rect">
            <a:avLst/>
          </a:prstGeom>
          <a:solidFill>
            <a:srgbClr val="0066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Pe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 18 d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cembr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e 1859 na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şt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în mod o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ficial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Congrega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ţ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Sale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ian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. C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 don Bosco, prim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i sale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ni s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0"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0c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19640" y="1016280"/>
            <a:ext cx="554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eea ce am făcut, am făcut pentru Domnul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Puteam să fac mai mul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dar vor face urmaşii mei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Congrega</a:t>
            </a: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ţ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a noastră este condusă de Dumnezeu şi protejată de Sf. Fecioară Mari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Ajutorul creştinilor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0720" y="3963960"/>
            <a:ext cx="4174920" cy="2662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3933720"/>
            <a:ext cx="40323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Spuneţi tinerilor că-i aştept pe toţi în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Paradis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pe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31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ianuarie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1888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La vârsta d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72 anni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3132000" cy="210492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11280" y="549360"/>
            <a:ext cx="792144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Sf. Ioan Bosco a spus....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4390920"/>
            <a:ext cx="2879640" cy="214308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5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1595520" cy="216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00720" y="4653000"/>
            <a:ext cx="4643280" cy="2089080"/>
          </a:xfrm>
          <a:prstGeom prst="ellipse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5012640"/>
            <a:ext cx="32400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 Black"/>
              </a:rPr>
              <a:t>Aminteşte-ţi mereu: singurul prieten adevărat este Dumnezeu</a:t>
            </a: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1" lang="it-IT" sz="23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4608360" cy="237492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765000"/>
            <a:ext cx="406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cc"/>
                </a:solidFill>
                <a:latin typeface="Arial Black"/>
              </a:rPr>
              <a:t>Lenea este maestra viciilor</a:t>
            </a:r>
            <a:r>
              <a:rPr b="1" lang="it-IT" sz="2800" spc="-1" strike="noStrike">
                <a:solidFill>
                  <a:srgbClr val="3333cc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0000" y="0"/>
            <a:ext cx="4464000" cy="234936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0" y="333360"/>
            <a:ext cx="27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990000"/>
                </a:solidFill>
                <a:latin typeface="Times New Roman"/>
              </a:rPr>
              <a:t>Fiţi mereu veseli fără să faceţi păcate</a:t>
            </a:r>
            <a:r>
              <a:rPr b="0" lang="it-IT" sz="2200" spc="-1" strike="noStrike">
                <a:solidFill>
                  <a:srgbClr val="99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2133720"/>
            <a:ext cx="7667640" cy="2663640"/>
          </a:xfrm>
          <a:prstGeom prst="ellipse">
            <a:avLst/>
          </a:prstGeom>
          <a:solidFill>
            <a:srgbClr val="66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2492280"/>
            <a:ext cx="537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it-IT" sz="2200" spc="-1" strike="noStrike">
                <a:solidFill>
                  <a:srgbClr val="008000"/>
                </a:solidFill>
                <a:latin typeface="Arial"/>
              </a:rPr>
              <a:t>F</a:t>
            </a:r>
            <a:r>
              <a:rPr b="1" lang="ro-RO" sz="2200" spc="-1" strike="noStrike">
                <a:solidFill>
                  <a:srgbClr val="008000"/>
                </a:solidFill>
                <a:latin typeface="Arial"/>
              </a:rPr>
              <a:t>iţi mereu un ajutor sigur pentru colegii voştri. Căutaţi să aveşi mereu un director spiritual care să apropie de Sf. Spovadă şi Sf. Împărtăşani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122720"/>
            <a:ext cx="4608360" cy="2735280"/>
          </a:xfrm>
          <a:prstGeom prst="ellipse">
            <a:avLst/>
          </a:prstGeom>
          <a:solidFill>
            <a:srgbClr val="ff99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4508640"/>
            <a:ext cx="323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Tinere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ai un singur</a:t>
            </a: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gândeşte-te cum să-l salvezi</a:t>
            </a:r>
            <a:r>
              <a:rPr b="1" lang="it-IT" sz="1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Nu-ţi foloseşte la nimic toată bogăţia lumii dacă-ţi pierzi sufletu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Fericit cel care la sfârşitul vieţii îşi dă seama de binele făcut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211640" y="907920"/>
            <a:ext cx="1996920" cy="1494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601040" y="2637000"/>
            <a:ext cx="1323720" cy="18000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8920" y="333360"/>
            <a:ext cx="1958760" cy="3887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5373720"/>
            <a:ext cx="5796000" cy="1295280"/>
          </a:xfrm>
          <a:prstGeom prst="rect">
            <a:avLst/>
          </a:prstGeom>
          <a:solidFill>
            <a:srgbClr val="cc66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1052640"/>
            <a:ext cx="4140360" cy="1726920"/>
          </a:xfrm>
          <a:prstGeom prst="rect">
            <a:avLst/>
          </a:prstGeom>
          <a:solidFill>
            <a:srgbClr val="ffcc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1341360"/>
            <a:ext cx="378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3366"/>
                </a:solidFill>
                <a:latin typeface="Verdana"/>
              </a:rPr>
              <a:t>Cel mai eficient sfat 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3366"/>
                </a:solidFill>
                <a:latin typeface="Arial Black"/>
              </a:rPr>
              <a:t>bun</a:t>
            </a:r>
            <a:r>
              <a:rPr b="1" lang="ro-RO" sz="2000" spc="-1" strike="noStrike">
                <a:solidFill>
                  <a:srgbClr val="993366"/>
                </a:solidFill>
                <a:latin typeface="Arial Black"/>
              </a:rPr>
              <a:t>ul</a:t>
            </a:r>
            <a:r>
              <a:rPr b="1" lang="it-IT" sz="2000" spc="-1" strike="noStrike">
                <a:solidFill>
                  <a:srgbClr val="993366"/>
                </a:solidFill>
                <a:latin typeface="Arial Black"/>
              </a:rPr>
              <a:t> e</a:t>
            </a:r>
            <a:r>
              <a:rPr b="1" lang="ro-RO" sz="2000" spc="-1" strike="noStrike">
                <a:solidFill>
                  <a:srgbClr val="993366"/>
                </a:solidFill>
                <a:latin typeface="Arial Black"/>
              </a:rPr>
              <a:t>x</a:t>
            </a:r>
            <a:r>
              <a:rPr b="1" lang="it-IT" sz="2000" spc="-1" strike="noStrike">
                <a:solidFill>
                  <a:srgbClr val="993366"/>
                </a:solidFill>
                <a:latin typeface="Arial Black"/>
              </a:rPr>
              <a:t>emp</a:t>
            </a:r>
            <a:r>
              <a:rPr b="1" lang="ro-RO" sz="2000" spc="-1" strike="noStrike">
                <a:solidFill>
                  <a:srgbClr val="993366"/>
                </a:solidFill>
                <a:latin typeface="Arial Black"/>
              </a:rPr>
              <a:t>lu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35640" y="2637000"/>
            <a:ext cx="4608360" cy="19443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2781360"/>
            <a:ext cx="4268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o-RO" sz="2600" spc="-1" strike="noStrike">
                <a:solidFill>
                  <a:srgbClr val="3333cc"/>
                </a:solidFill>
                <a:latin typeface="Times New Roman"/>
              </a:rPr>
              <a:t>Fă mereu prin fapte ceea ce propui altora prin cuvinte</a:t>
            </a:r>
            <a:r>
              <a:rPr b="1" lang="it-IT" sz="26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4076640"/>
            <a:ext cx="3240000" cy="136836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4149720"/>
            <a:ext cx="32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Impact"/>
              </a:rPr>
              <a:t> </a:t>
            </a:r>
            <a:r>
              <a:rPr b="0" lang="ro-RO" sz="2400" spc="-1" strike="noStrike">
                <a:solidFill>
                  <a:srgbClr val="000000"/>
                </a:solidFill>
                <a:latin typeface="Impact"/>
              </a:rPr>
              <a:t>Fiecare să ştie să scoată un profit spiritual din orice lucru</a:t>
            </a:r>
            <a:r>
              <a:rPr b="0" lang="it-IT" sz="2400" spc="-1" strike="noStrike">
                <a:solidFill>
                  <a:srgbClr val="000000"/>
                </a:solidFill>
                <a:latin typeface="Impac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4581360"/>
            <a:ext cx="3024360" cy="2087640"/>
          </a:xfrm>
          <a:prstGeom prst="rect">
            <a:avLst/>
          </a:prstGeom>
          <a:solidFill>
            <a:srgbClr val="ff99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0360" y="4724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8000"/>
                </a:solidFill>
                <a:latin typeface="Lucida Sans"/>
              </a:rPr>
              <a:t>Cheia </a:t>
            </a:r>
            <a:r>
              <a:rPr b="1" lang="it-IT" sz="2400" spc="-1" strike="noStrike">
                <a:solidFill>
                  <a:srgbClr val="008000"/>
                </a:solidFill>
                <a:latin typeface="Lucida Sans"/>
              </a:rPr>
              <a:t>bun</a:t>
            </a:r>
            <a:r>
              <a:rPr b="1" lang="ro-RO" sz="2400" spc="-1" strike="noStrike">
                <a:solidFill>
                  <a:srgbClr val="008000"/>
                </a:solidFill>
                <a:latin typeface="Lucida Sans"/>
              </a:rPr>
              <a:t>ului</a:t>
            </a:r>
            <a:r>
              <a:rPr b="1" lang="it-IT" sz="2400" spc="-1" strike="noStrike">
                <a:solidFill>
                  <a:srgbClr val="008000"/>
                </a:solidFill>
                <a:latin typeface="Lucida Sans"/>
              </a:rPr>
              <a:t> e</a:t>
            </a:r>
            <a:r>
              <a:rPr b="1" lang="ro-RO" sz="2400" spc="-1" strike="noStrike">
                <a:solidFill>
                  <a:srgbClr val="008000"/>
                </a:solidFill>
                <a:latin typeface="Lucida Sans"/>
              </a:rPr>
              <a:t>x</a:t>
            </a:r>
            <a:r>
              <a:rPr b="1" lang="it-IT" sz="2400" spc="-1" strike="noStrike">
                <a:solidFill>
                  <a:srgbClr val="008000"/>
                </a:solidFill>
                <a:latin typeface="Lucida Sans"/>
              </a:rPr>
              <a:t>emp</a:t>
            </a:r>
            <a:r>
              <a:rPr b="1" lang="ro-RO" sz="2400" spc="-1" strike="noStrike">
                <a:solidFill>
                  <a:srgbClr val="008000"/>
                </a:solidFill>
                <a:latin typeface="Lucida Sans"/>
              </a:rPr>
              <a:t>lu</a:t>
            </a:r>
            <a:r>
              <a:rPr b="1" lang="it-IT" sz="2400" spc="-1" strike="noStrike">
                <a:solidFill>
                  <a:srgbClr val="008000"/>
                </a:solidFill>
                <a:latin typeface="Lucida Sans"/>
              </a:rPr>
              <a:t> </a:t>
            </a:r>
            <a:r>
              <a:rPr b="1" lang="ro-RO" sz="2400" spc="-1" strike="noStrike">
                <a:solidFill>
                  <a:srgbClr val="008000"/>
                </a:solidFill>
                <a:latin typeface="Lucida Sans"/>
              </a:rPr>
              <a:t>este</a:t>
            </a:r>
            <a:r>
              <a:rPr b="1" lang="it-IT" sz="2400" spc="-1" strike="noStrike">
                <a:solidFill>
                  <a:srgbClr val="008000"/>
                </a:solidFill>
                <a:latin typeface="Lucida Sans"/>
              </a:rPr>
              <a:t> </a:t>
            </a:r>
            <a:r>
              <a:rPr b="1" lang="ro-RO" sz="2400" spc="-1" strike="noStrike" u="sng">
                <a:solidFill>
                  <a:srgbClr val="008000"/>
                </a:solidFill>
                <a:uFillTx/>
                <a:latin typeface="Lucida Sans"/>
              </a:rPr>
              <a:t>ascultarea</a:t>
            </a:r>
            <a:r>
              <a:rPr b="1" lang="it-IT" sz="2400" spc="-1" strike="noStrike">
                <a:solidFill>
                  <a:srgbClr val="008000"/>
                </a:solidFill>
                <a:latin typeface="Lucida Sans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476280"/>
            <a:ext cx="6408720" cy="792000"/>
          </a:xfrm>
          <a:prstGeom prst="rect">
            <a:avLst/>
          </a:prstGeom>
          <a:solidFill>
            <a:srgbClr val="008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62064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Inamicul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bun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ului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emp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lu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este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scandal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ul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544500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80"/>
                </a:solidFill>
                <a:latin typeface="Tahoma"/>
              </a:rPr>
              <a:t>Aminteşte-ţi</a:t>
            </a:r>
            <a:r>
              <a:rPr b="1" lang="it-IT" sz="2400" spc="-1" strike="noStrike">
                <a:solidFill>
                  <a:srgbClr val="800080"/>
                </a:solidFill>
                <a:latin typeface="Tahoma"/>
              </a:rPr>
              <a:t> c</a:t>
            </a:r>
            <a:r>
              <a:rPr b="1" lang="ro-RO" sz="2400" spc="-1" strike="noStrike">
                <a:solidFill>
                  <a:srgbClr val="800080"/>
                </a:solidFill>
                <a:latin typeface="Tahoma"/>
              </a:rPr>
              <a:t>ă </a:t>
            </a:r>
            <a:r>
              <a:rPr b="1" lang="it-IT" sz="2400" spc="-1" strike="noStrike">
                <a:solidFill>
                  <a:srgbClr val="800080"/>
                </a:solidFill>
                <a:latin typeface="Arial Black"/>
              </a:rPr>
              <a:t>n</a:t>
            </a:r>
            <a:r>
              <a:rPr b="1" lang="ro-RO" sz="2400" spc="-1" strike="noStrike">
                <a:solidFill>
                  <a:srgbClr val="800080"/>
                </a:solidFill>
                <a:latin typeface="Arial Black"/>
              </a:rPr>
              <a:t>u-i</a:t>
            </a:r>
            <a:r>
              <a:rPr b="1" lang="it-IT" sz="2400" spc="-1" strike="noStrike">
                <a:solidFill>
                  <a:srgbClr val="800080"/>
                </a:solidFill>
                <a:latin typeface="Arial Black"/>
              </a:rPr>
              <a:t> </a:t>
            </a:r>
            <a:r>
              <a:rPr b="1" lang="ro-RO" sz="2400" spc="-1" strike="noStrike">
                <a:solidFill>
                  <a:srgbClr val="800080"/>
                </a:solidFill>
                <a:latin typeface="Arial Black"/>
              </a:rPr>
              <a:t>deajuns să ştii lucrurile</a:t>
            </a:r>
            <a:r>
              <a:rPr b="1" lang="it-IT" sz="2400" spc="-1" strike="noStrike">
                <a:solidFill>
                  <a:srgbClr val="800080"/>
                </a:solidFill>
                <a:latin typeface="Arial Black"/>
              </a:rPr>
              <a:t>, </a:t>
            </a:r>
            <a:r>
              <a:rPr b="1" lang="ro-RO" sz="2400" spc="-1" strike="noStrike">
                <a:solidFill>
                  <a:srgbClr val="800080"/>
                </a:solidFill>
                <a:latin typeface="Arial Black"/>
              </a:rPr>
              <a:t>trebuie să şi le </a:t>
            </a:r>
            <a:r>
              <a:rPr b="1" lang="it-IT" sz="2400" spc="-1" strike="noStrike">
                <a:solidFill>
                  <a:srgbClr val="800080"/>
                </a:solidFill>
                <a:latin typeface="Arial Black"/>
              </a:rPr>
              <a:t>pra</a:t>
            </a:r>
            <a:r>
              <a:rPr b="1" lang="ro-RO" sz="2400" spc="-1" strike="noStrike">
                <a:solidFill>
                  <a:srgbClr val="800080"/>
                </a:solidFill>
                <a:latin typeface="Arial Black"/>
              </a:rPr>
              <a:t>c</a:t>
            </a:r>
            <a:r>
              <a:rPr b="1" lang="it-IT" sz="2400" spc="-1" strike="noStrike">
                <a:solidFill>
                  <a:srgbClr val="800080"/>
                </a:solidFill>
                <a:latin typeface="Arial Black"/>
              </a:rPr>
              <a:t>tic</a:t>
            </a:r>
            <a:r>
              <a:rPr b="1" lang="ro-RO" sz="2400" spc="-1" strike="noStrike">
                <a:solidFill>
                  <a:srgbClr val="800080"/>
                </a:solidFill>
                <a:latin typeface="Arial Black"/>
              </a:rPr>
              <a:t>i</a:t>
            </a:r>
            <a:r>
              <a:rPr b="1" lang="it-IT" sz="2400" spc="-1" strike="noStrike">
                <a:solidFill>
                  <a:srgbClr val="800080"/>
                </a:solidFill>
                <a:latin typeface="Arial Black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700360" y="1557360"/>
            <a:ext cx="1361880" cy="1871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60000"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4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3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0"/>
                            </p:stCondLst>
                            <p:childTnLst>
                              <p:par>
                                <p:cTn id="3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76720" y="907920"/>
            <a:ext cx="2349360" cy="511488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4264200"/>
            <a:ext cx="8497800" cy="1769760"/>
          </a:xfrm>
          <a:prstGeom prst="rect">
            <a:avLst/>
          </a:prstGeom>
          <a:gradFill rotWithShape="0">
            <a:gsLst>
              <a:gs pos="0">
                <a:srgbClr val="3333cc">
                  <a:alpha val="67058"/>
                </a:srgbClr>
              </a:gs>
              <a:gs pos="100000">
                <a:srgbClr val="ffffff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Ioan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Bosco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s-a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pe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16 a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st 1815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astelnuovo D'Asti,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aproape de Torino, Italia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Când avea 2ani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îi moare tatăl şi experimentează durerea de fi orfan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ama, Margherita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 îl formează şi-l educă bine,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fiind un exemplu demn de urma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2760" y="765000"/>
            <a:ext cx="1825560" cy="201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908000" y="476280"/>
            <a:ext cx="1570320" cy="2017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03640" y="333360"/>
            <a:ext cx="2371680" cy="3382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La Casa Natal de San Juan Bosc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360" y="1052640"/>
            <a:ext cx="3230640" cy="2233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667640" y="189000"/>
            <a:ext cx="1150920" cy="114912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87800"/>
            <a:ext cx="9144000" cy="192276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ff33cc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i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don Bosco are un vis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ofetic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I se părea că se află î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 m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ijlocul multor copii care se jucau, dar unii se comportau urât... Imediat a început să împartă pumni şi picioare în dreapta şi-n stânga pentru a-i opri; deodată îi apare u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rson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j care-i spun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1247200">
            <a:off x="1833840" y="4868640"/>
            <a:ext cx="5173560" cy="137448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Personajul este Isus, iar Învăţătoarea este Maria, mama s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sub căluyirea căreia don Bosco se încredinţează mereu numind-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Maria, Ajutorul Creştinilor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".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581360"/>
            <a:ext cx="1351080" cy="187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6000" y="4724280"/>
            <a:ext cx="1284120" cy="172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2781360"/>
            <a:ext cx="758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"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u cu lovituri, ci cu blândeţe şi iubire va trebui să-ţi câştigi aceşti prieteni... Eu îţi voi da Învăţătoarea sub îndrumarea căreia vei deveni înţelept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şi fără de car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orice înţelepciune devine neştiinţă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880"/>
            <a:ext cx="9144000" cy="1557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ntru a-ş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hema colegii la joacă şi a-i ţine departe de păcat, don Bosco devin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un adevărat artist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: face jonglerii, merge pe sârmă.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ro-RO" sz="2400" spc="-1" strike="noStrike">
                <a:solidFill>
                  <a:srgbClr val="000000"/>
                </a:solidFill>
                <a:latin typeface="Times New Roman"/>
              </a:rPr>
              <a:t>Când sunt cu mine, spunea mamei, nimeni nu se comportă urât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"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743360" y="2276640"/>
            <a:ext cx="4400640" cy="3070080"/>
            <a:chOff x="4743360" y="2276640"/>
            <a:chExt cx="4400640" cy="30700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6797520" y="2276640"/>
              <a:ext cx="171612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743360" y="4521240"/>
              <a:ext cx="4400640" cy="8254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400" spc="-1" strike="noStrike">
                  <a:solidFill>
                    <a:srgbClr val="000000"/>
                  </a:solidFill>
                  <a:latin typeface="Times New Roman"/>
                </a:rPr>
                <a:t>La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 11 ani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o-RO" sz="2400" spc="-1" strike="noStrike">
                  <a:solidFill>
                    <a:srgbClr val="000000"/>
                  </a:solidFill>
                  <a:latin typeface="Times New Roman"/>
                </a:rPr>
                <a:t>face Prima Sf. Împărtăşanie </a:t>
              </a: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(1826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5810040"/>
            <a:ext cx="9144000" cy="825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n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mb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1831,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Ioan merge 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Chier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, unde timp de 10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i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tudiază, plătind cheltuielile din propria muncă part-tim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2040" y="1957320"/>
            <a:ext cx="3743280" cy="3242160"/>
            <a:chOff x="122040" y="1957320"/>
            <a:chExt cx="3743280" cy="32421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 rot="20451600">
              <a:off x="487080" y="2322000"/>
              <a:ext cx="1725480" cy="25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 rot="19658400">
              <a:off x="1763280" y="2349000"/>
              <a:ext cx="1871640" cy="14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 rot="680400">
              <a:off x="1547280" y="3141360"/>
              <a:ext cx="1360800" cy="1942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60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-355680"/>
            <a:ext cx="874872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on Bos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dimineaţa mergea la or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după-amiaza lucr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iar seara învăţ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n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ob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 183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nt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mina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ul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di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Chier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Simte chemarea de a deveni pre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şi a s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dica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salvării tinerilor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P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5 giugno 1841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Ioan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Bosco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este sfinţit pre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la vârsta de 26 de an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A doua z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celebrează Prima Sf. Liturgh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fiind asistat de don Cafas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care devine directorul său spiritu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0920" y="5154480"/>
            <a:ext cx="3200400" cy="1568520"/>
            <a:chOff x="250920" y="5154480"/>
            <a:chExt cx="3200400" cy="15685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250920" y="5157720"/>
              <a:ext cx="2087640" cy="156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484360" y="5154480"/>
              <a:ext cx="966960" cy="144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6516720" y="2997360"/>
            <a:ext cx="2340000" cy="2016000"/>
            <a:chOff x="6516720" y="2997360"/>
            <a:chExt cx="2340000" cy="2016000"/>
          </a:xfrm>
        </p:grpSpPr>
        <p:pic>
          <p:nvPicPr>
            <p:cNvPr id="69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948360" y="2997360"/>
              <a:ext cx="190836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16720" y="2997360"/>
              <a:ext cx="1501920" cy="20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5148360" y="189000"/>
            <a:ext cx="3743280" cy="1830240"/>
            <a:chOff x="5148360" y="189000"/>
            <a:chExt cx="3743280" cy="1830240"/>
          </a:xfrm>
        </p:grpSpPr>
        <p:pic>
          <p:nvPicPr>
            <p:cNvPr id="72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443640" y="189000"/>
              <a:ext cx="244800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5148360" y="333360"/>
              <a:ext cx="1944720" cy="93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0" y="0"/>
            <a:ext cx="2484360" cy="3681360"/>
            <a:chOff x="0" y="0"/>
            <a:chExt cx="2484360" cy="3681360"/>
          </a:xfrm>
        </p:grpSpPr>
        <p:sp>
          <p:nvSpPr>
            <p:cNvPr id="75" name=""/>
            <p:cNvSpPr/>
            <p:nvPr/>
          </p:nvSpPr>
          <p:spPr>
            <a:xfrm>
              <a:off x="395280" y="3068640"/>
              <a:ext cx="1584360" cy="28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1650960" cy="20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3"/>
            <a:stretch/>
          </p:blipFill>
          <p:spPr>
            <a:xfrm>
              <a:off x="324000" y="1641600"/>
              <a:ext cx="2160360" cy="2039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60000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89844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fântul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Iosif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afass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1811-186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 fost mulţi ani apostolul celor care erau în închisoare, ajutându-i să se împace cu Dumnezeu în ultimele zile din viaţa lo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cafasso"/>
          <p:cNvPicPr/>
          <p:nvPr/>
        </p:nvPicPr>
        <p:blipFill>
          <a:blip r:embed="rId1"/>
          <a:stretch/>
        </p:blipFill>
        <p:spPr>
          <a:xfrm rot="676200">
            <a:off x="7164000" y="3716280"/>
            <a:ext cx="1441440" cy="129852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59760" y="-21960"/>
            <a:ext cx="8838000" cy="2949120"/>
            <a:chOff x="59760" y="-21960"/>
            <a:chExt cx="8838000" cy="2949120"/>
          </a:xfrm>
        </p:grpSpPr>
        <p:pic>
          <p:nvPicPr>
            <p:cNvPr id="81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 rot="20425200">
              <a:off x="261720" y="414360"/>
              <a:ext cx="1800000" cy="15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 rot="1362600">
              <a:off x="1547640" y="476280"/>
              <a:ext cx="1970280" cy="14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 rot="20443800">
              <a:off x="2792520" y="412560"/>
              <a:ext cx="2962080" cy="19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 rot="634800">
              <a:off x="4752720" y="417240"/>
              <a:ext cx="206352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 rot="20818200">
              <a:off x="6227640" y="333000"/>
              <a:ext cx="2484720" cy="192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60000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4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dddd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429920"/>
            <a:ext cx="65530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on Bosco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organizează în fiecare duminică Oratoriul pentru toţi copii şi tinerii îndeosebi pentru cei veniţi la muncă î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orino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din satele apropia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Jucându-se, organizând concursuri şi turnee, creează zarvă mare şi de aceia multora li se pare că don Bosco a înnebunit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În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rim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ra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anului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1846, Oratori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u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găseşte în sfârş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un loc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efinitiv,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în cartierul de periferie,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Valdoc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227640" y="189000"/>
            <a:ext cx="2916360" cy="6669000"/>
            <a:chOff x="6227640" y="189000"/>
            <a:chExt cx="2916360" cy="6669000"/>
          </a:xfrm>
        </p:grpSpPr>
        <p:pic>
          <p:nvPicPr>
            <p:cNvPr id="8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 rot="1379400">
              <a:off x="6803640" y="1699920"/>
              <a:ext cx="1584360" cy="11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Don Bosco + Mamma"/>
            <p:cNvPicPr/>
            <p:nvPr/>
          </p:nvPicPr>
          <p:blipFill>
            <a:blip r:embed="rId3"/>
            <a:stretch/>
          </p:blipFill>
          <p:spPr>
            <a:xfrm>
              <a:off x="6516720" y="3068640"/>
              <a:ext cx="2303280" cy="14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6659640" y="189000"/>
              <a:ext cx="123804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 rot="246600">
              <a:off x="7380000" y="1484280"/>
              <a:ext cx="154764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Das Pinardihaus in einem späteren, renovierten und erweiterten "/>
            <p:cNvPicPr/>
            <p:nvPr/>
          </p:nvPicPr>
          <p:blipFill>
            <a:blip r:embed="rId7"/>
            <a:stretch/>
          </p:blipFill>
          <p:spPr>
            <a:xfrm>
              <a:off x="6227640" y="4221000"/>
              <a:ext cx="201636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Franziskuskirche"/>
            <p:cNvPicPr/>
            <p:nvPr/>
          </p:nvPicPr>
          <p:blipFill>
            <a:blip r:embed="rId8"/>
            <a:stretch/>
          </p:blipFill>
          <p:spPr>
            <a:xfrm>
              <a:off x="7743960" y="4797360"/>
              <a:ext cx="1400040" cy="206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2000" y="5300640"/>
            <a:ext cx="1095120" cy="141912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5944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În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Oratori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mulţi tineri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, studia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ză şi învaţă o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meser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Dar mai ales învaţă să-l iubească pe Dumnezeu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Times New Roman"/>
              </a:rPr>
              <a:t>f.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Times New Roman"/>
              </a:rPr>
              <a:t> Dom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Times New Roman"/>
              </a:rPr>
              <a:t>nic Savio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este unul dintre aceşti tineri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În 1859 d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on Bosco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înfiinţează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ngrega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ţia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Sale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an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ă (SDB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preoţi şi călugări.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În 1872 don Bosco înfiinţează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ngrega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ţia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Fiicele Mariei Ajutătoare (FMA –surorile salezien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împreună cu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f.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Maria Domenica Mazzarel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24000" y="3645000"/>
            <a:ext cx="8530920" cy="2326320"/>
            <a:chOff x="324000" y="3645000"/>
            <a:chExt cx="8530920" cy="2326320"/>
          </a:xfrm>
        </p:grpSpPr>
        <p:pic>
          <p:nvPicPr>
            <p:cNvPr id="97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716360" y="3645000"/>
              <a:ext cx="1181160" cy="84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" name=""/>
            <p:cNvGrpSpPr/>
            <p:nvPr/>
          </p:nvGrpSpPr>
          <p:grpSpPr>
            <a:xfrm>
              <a:off x="324000" y="3716280"/>
              <a:ext cx="8530920" cy="2255040"/>
              <a:chOff x="324000" y="3716280"/>
              <a:chExt cx="8530920" cy="2255040"/>
            </a:xfrm>
          </p:grpSpPr>
          <p:pic>
            <p:nvPicPr>
              <p:cNvPr id="99" name="" descr="generální rada FMA"/>
              <p:cNvPicPr/>
              <p:nvPr/>
            </p:nvPicPr>
            <p:blipFill>
              <a:blip r:embed="rId4"/>
              <a:stretch/>
            </p:blipFill>
            <p:spPr>
              <a:xfrm>
                <a:off x="6588000" y="4507920"/>
                <a:ext cx="2266920" cy="146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324000" y="4147560"/>
                <a:ext cx="133344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1547640" y="3789000"/>
                <a:ext cx="1295640" cy="97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>
                <a:hlinkClick r:id="rId9"/>
              </p:cNvPr>
              <p:cNvPicPr/>
              <p:nvPr/>
            </p:nvPicPr>
            <p:blipFill>
              <a:blip r:embed="rId10"/>
              <a:stretch/>
            </p:blipFill>
            <p:spPr>
              <a:xfrm>
                <a:off x="5867280" y="3716280"/>
                <a:ext cx="895320" cy="138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>
                <a:hlinkClick r:id="rId11"/>
              </p:cNvPr>
              <p:cNvPicPr/>
              <p:nvPr/>
            </p:nvPicPr>
            <p:blipFill>
              <a:blip r:embed="rId12"/>
              <a:stretch/>
            </p:blipFill>
            <p:spPr>
              <a:xfrm>
                <a:off x="3492360" y="3789000"/>
                <a:ext cx="1362240" cy="98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>
                <a:hlinkClick r:id="rId13"/>
              </p:cNvPr>
              <p:cNvPicPr/>
              <p:nvPr/>
            </p:nvPicPr>
            <p:blipFill>
              <a:blip r:embed="rId14"/>
              <a:stretch/>
            </p:blipFill>
            <p:spPr>
              <a:xfrm>
                <a:off x="2556000" y="4292280"/>
                <a:ext cx="1079280" cy="9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5" name=""/>
          <p:cNvGrpSpPr/>
          <p:nvPr/>
        </p:nvGrpSpPr>
        <p:grpSpPr>
          <a:xfrm>
            <a:off x="0" y="549360"/>
            <a:ext cx="2233440" cy="2160360"/>
            <a:chOff x="0" y="549360"/>
            <a:chExt cx="2233440" cy="2160360"/>
          </a:xfrm>
        </p:grpSpPr>
        <p:pic>
          <p:nvPicPr>
            <p:cNvPr id="106" name="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0" y="549360"/>
              <a:ext cx="174456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1258920" y="1557360"/>
              <a:ext cx="974520" cy="11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6143040" y="333360"/>
            <a:ext cx="2711880" cy="4952520"/>
            <a:chOff x="6143040" y="333360"/>
            <a:chExt cx="2711880" cy="4952520"/>
          </a:xfrm>
        </p:grpSpPr>
        <p:pic>
          <p:nvPicPr>
            <p:cNvPr id="109" name="" descr="">
              <a:hlinkClick r:id="rId19"/>
            </p:cNvPr>
            <p:cNvPicPr/>
            <p:nvPr/>
          </p:nvPicPr>
          <p:blipFill>
            <a:blip r:embed="rId20"/>
            <a:stretch/>
          </p:blipFill>
          <p:spPr>
            <a:xfrm>
              <a:off x="6248520" y="1844640"/>
              <a:ext cx="78264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>
              <a:hlinkClick r:id="rId21"/>
            </p:cNvPr>
            <p:cNvPicPr/>
            <p:nvPr/>
          </p:nvPicPr>
          <p:blipFill>
            <a:blip r:embed="rId22"/>
            <a:stretch/>
          </p:blipFill>
          <p:spPr>
            <a:xfrm>
              <a:off x="7812000" y="333360"/>
              <a:ext cx="978120" cy="17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>
              <a:hlinkClick r:id="rId23"/>
            </p:cNvPr>
            <p:cNvPicPr/>
            <p:nvPr/>
          </p:nvPicPr>
          <p:blipFill>
            <a:blip r:embed="rId24"/>
            <a:stretch/>
          </p:blipFill>
          <p:spPr>
            <a:xfrm>
              <a:off x="7020000" y="2276640"/>
              <a:ext cx="183492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>
              <a:hlinkClick r:id="rId25"/>
            </p:cNvPr>
            <p:cNvPicPr/>
            <p:nvPr/>
          </p:nvPicPr>
          <p:blipFill>
            <a:blip r:embed="rId26"/>
            <a:stretch/>
          </p:blipFill>
          <p:spPr>
            <a:xfrm rot="20490600">
              <a:off x="6443640" y="2924280"/>
              <a:ext cx="1620720" cy="216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60000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5120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În luna i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uli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1846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on Bosco s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îmbolăveşte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grav.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Mulţumită îndeosebi rugăciunilor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tinerilor din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Oratori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în câteva zile se vindecă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Pe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3 no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mbr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 1846 d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convalescen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 trăită în satul nata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on Bosco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se întoarce la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Oratori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însoţit de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ma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Margherit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În de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embr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 1847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deschide aproape de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orta Nuova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al doilea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Oratori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dedicându-l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f.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uig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5013360"/>
            <a:ext cx="1514520" cy="985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40680" y="3860640"/>
            <a:ext cx="1903320" cy="1309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04000" y="765000"/>
            <a:ext cx="2073240" cy="154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50920" y="115920"/>
            <a:ext cx="1076400" cy="1441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5272200"/>
            <a:ext cx="1727280" cy="1269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9640" y="5229360"/>
            <a:ext cx="1871640" cy="1323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2124000" y="4923000"/>
            <a:ext cx="1727280" cy="1292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3470400" y="5157720"/>
            <a:ext cx="1293840" cy="136692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4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4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4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4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4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4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4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4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4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4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4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4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4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DB-INE-UD</cp:lastModifiedBy>
  <dcterms:modified xsi:type="dcterms:W3CDTF">2008-01-31T00:35:34Z</dcterms:modified>
  <cp:revision>637</cp:revision>
  <dc:subject/>
  <dc:title>PowerPoint Presentation</dc:title>
</cp:coreProperties>
</file>